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640-A39D-4188-A762-085893BD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968-725F-4FF0-9368-08A7E5FE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BF4-6BD7-41A5-97D0-595DD0A1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776-18FA-4CA9-9411-DA2C6650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37FF-E3FC-46E5-97D4-B1FA84E8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1EE8-5CC5-42FF-80E1-CE5B8FBC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C20B-9D8B-4882-8A33-DAAC7761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EBA7-0B6B-4360-978B-2C6D53D7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28EE-986B-4A12-A7C4-AC6BD2D2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A395-20A8-4F6B-8F63-6843787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D8D8-4031-4C76-B967-7A6720C9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4C0-26AA-4498-B3D4-64CB276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4110-5447-47D0-B1BC-7B71E00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C635-437A-4EAA-A889-CDEC70E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80D2-FAE8-4BFC-829C-7E610FE7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6DC1-9870-48CE-A297-8F6885C2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FC66-AC85-4247-8DAE-044DA29A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79E-D76F-4795-8E15-0ADE4021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66A-D33A-4B71-809E-482F159B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45F-D8AD-4CD8-93D5-21E2F09F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91F-03D5-4A5B-993D-93AC4A34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23A-4FE3-4E10-A008-0201637A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515-D7F3-41BF-AADC-360662D3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FE5-C8A5-4EBC-96C4-BABC935C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5170-949C-45DA-BD12-C1CE42970B27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E01A-28B5-4FA3-81C8-073877221BA2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Czech Red Cross Youth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000" y="259092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Established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1990 -  after The Velvet revolu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6880" y="4572000"/>
            <a:ext cx="76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Devided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1993 -  after ČR/SR explo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78680" y="25146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Fun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4640" y="25909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Organis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1911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rogram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911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Financing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240" y="33526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decreas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79920" y="5554800"/>
            <a:ext cx="5159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90 mil.     Czech crowns in 1990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2,5 mil. Czech crowns for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MONEY !!!!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88620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181480" y="33526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80920" y="335268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3352680"/>
            <a:ext cx="0" cy="2895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IDEAS…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040" y="6172200"/>
            <a:ext cx="53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cc"/>
                </a:solidFill>
                <a:latin typeface="Times New Roman"/>
              </a:rPr>
              <a:t>Lets think and help us……………………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6560" y="243828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Membershi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7440" y="342900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Basic Grou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9400" y="449568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Board of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1360" y="563868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Board of republ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6560" y="19303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First Hel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6200" y="276876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Help Tra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6560" y="353052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Childr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5840" y="429264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Leadership Trai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6920" y="505476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Repor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3520" y="601992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cc"/>
                </a:solidFill>
                <a:latin typeface="Times New Roman"/>
              </a:rPr>
              <a:t>And of course, theme why we are here……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Proj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7240" y="19810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AIDS Seminary 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880" y="281952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AIDS Seminary I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920" y="34290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Forum pers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44956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Guarante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7920" y="58672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xecutive bo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HIV / AIDS projec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438280"/>
            <a:ext cx="1295280" cy="53352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048120"/>
            <a:ext cx="1219320" cy="3808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334120" y="4114800"/>
            <a:ext cx="914400" cy="53352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638680" y="4191120"/>
            <a:ext cx="1295640" cy="13716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828440" y="3809520"/>
            <a:ext cx="1600200" cy="167652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419720" y="5105520"/>
            <a:ext cx="0" cy="4572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6120" y="3276720"/>
            <a:ext cx="39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cc"/>
                </a:solidFill>
                <a:latin typeface="Times New Roman"/>
              </a:rPr>
              <a:t>Candlelight Memor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240" y="434340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orld AIDS Da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6120" y="548640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cc"/>
                </a:solidFill>
                <a:latin typeface="Times New Roman"/>
              </a:rPr>
              <a:t>House of the li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8640" y="228600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cc"/>
                </a:solidFill>
                <a:latin typeface="Times New Roman"/>
              </a:rPr>
              <a:t>Foru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Other activiti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Gam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19051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global HIV/AIDS epidemic killed more than 3 million people in 2003, and an estimated 5 million acquired the human immunodeficiency virus (HIV)—bringing to 40 million the number of people living with the virus around the world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The Worl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2286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Population                                              10,3 mi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3440" y="2895480"/>
            <a:ext cx="67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On Urban area live                                66%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5880" y="3581280"/>
            <a:ext cx="44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life expectancy at birth</a:t>
            </a:r>
            <a:r>
              <a:rPr b="1" lang="cs-CZ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360" y="36576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cc"/>
                </a:solidFill>
                <a:latin typeface="Times New Roman"/>
              </a:rPr>
              <a:t>Male 7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cc"/>
                </a:solidFill>
                <a:latin typeface="Times New Roman"/>
              </a:rPr>
              <a:t>Female 7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4440" y="5943600"/>
            <a:ext cx="75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Reported cases                                      611    by Feb.  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Czech Republ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962520"/>
            <a:ext cx="76212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3962520"/>
            <a:ext cx="83844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9160" y="2057400"/>
            <a:ext cx="58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jecting drug use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                                   4,7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9160" y="289548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i/homosexual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52,3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657600"/>
            <a:ext cx="57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eterosexual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30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7360" y="4419720"/>
            <a:ext cx="61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rom mohter to child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                              3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0600" y="5181480"/>
            <a:ext cx="59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blood products                                         5,5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Times New Roman"/>
              </a:rPr>
              <a:t>Transmi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21:44:06Z</dcterms:created>
  <dc:creator>Jindřich Bedaň</dc:creator>
  <dc:description/>
  <dc:language>en-US</dc:language>
  <cp:lastModifiedBy>x</cp:lastModifiedBy>
  <dcterms:modified xsi:type="dcterms:W3CDTF">2004-02-17T20:34:35Z</dcterms:modified>
  <cp:revision>15</cp:revision>
  <dc:subject/>
  <dc:title>prezentace projektu HIV</dc:title>
</cp:coreProperties>
</file>